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1.wmf" ContentType="image/x-wmf"/>
  <Override PartName="/ppt/media/image6.png" ContentType="image/png"/>
  <Override PartName="/ppt/media/image4.jpeg" ContentType="image/jpeg"/>
  <Override PartName="/ppt/media/image8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6.jpeg" ContentType="image/jpeg"/>
  <Override PartName="/ppt/media/image27.wmf" ContentType="image/x-wmf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type.wav" ContentType="audio/x-wav"/>
  <Override PartName="/ppt/media/image3.jpeg" ContentType="image/jpeg"/>
  <Override PartName="/ppt/media/image28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2.wmf" ContentType="image/x-wmf"/>
  <Override PartName="/ppt/media/laser.wav" ContentType="audio/x-wav"/>
  <Override PartName="/ppt/media/image16.jpeg" ContentType="image/jpeg"/>
  <Override PartName="/ppt/media/image13.jpeg" ContentType="image/jpeg"/>
  <Override PartName="/ppt/media/arrow.wav" ContentType="audio/x-wav"/>
  <Override PartName="/ppt/media/image23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  <p:sldId id="336" r:id="rId93"/>
    <p:sldId id="337" r:id="rId94"/>
    <p:sldId id="33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slide" Target="slides/slide81.xml"/><Relationship Id="rId94" Type="http://schemas.openxmlformats.org/officeDocument/2006/relationships/slide" Target="slides/slide82.xml"/><Relationship Id="rId95" Type="http://schemas.openxmlformats.org/officeDocument/2006/relationships/slide" Target="slides/slide8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784-1338-4782-8196-D34C7E86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D31-A457-4EB8-8582-24DF7024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9E052-6715-410E-90DF-250DF470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212B4-F4C9-4B23-B13D-D3B5C059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7D4D0-607A-4B63-BFA8-34CC1E31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F6C8D-55B4-4D5D-8D0E-E387A5B3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5B148-085D-4C7C-82CD-2021F9A2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E7F06-E7CC-4D50-A559-364F06A0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E027B-E7CF-46DF-8C4F-8114922F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1CE75-8AF7-4B9E-8761-C8BE74E7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B8A56-6BA4-44D6-A321-DB479579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B5283-FB50-4009-8C2E-C1C85DE6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C3D-1725-4EDB-86D0-131B7A7E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A7869-A9DA-4BD0-8A43-CD3FB059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D8A6A-8076-40D2-8662-C4134367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55D2F-CD95-4318-BA2F-22EC546B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063AA-B354-476D-8B45-3223ECDC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51826-6DF9-4B91-A99F-07D51D98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1B8BF-CFA4-4BF7-97C7-16262BFA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2BB42-32D4-4682-BB5D-17A00E2E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AD01D-BE69-4033-B022-87E38774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9BFC6-7887-4CF4-A25A-90B4D7C4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DFFC6-4DC8-45BA-AE33-44F15F64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D04-30A4-483D-AE5F-F897BE32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AFFD7-37C0-410F-82D7-97B3F249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5C66A-202F-41C1-B428-B869D6D2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92644-29D1-4A81-8EF6-582AF354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08B80-4FB8-4444-9C3D-BF449835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8A83E-1EB7-4CEB-8EB4-27C3E83E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6B3BA-0DF6-493F-949B-F2BA9147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285F4-63ED-4D8B-B25F-A892B89D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9F71C-9EA3-4722-BA7C-FA73EF72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5F99A-8829-4358-B9D8-DA8401CC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E6A85-C0F4-4489-9FB8-57C68A8E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E6C4-EDE9-43BF-BA4B-26CA28F3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92CFB-1879-4669-B3EA-9DB11D77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11EBE-10CB-4041-B379-3347656B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EB8D9-D113-4288-9F25-8A2DFE1E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DDA4-455C-4E1D-A3D3-578662DA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E9EA-0FAD-41E7-868A-250652DA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AB72-8AF8-423C-AF7E-0C6DC647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FB59-698C-4BC8-BF0C-1033E2FD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A802-85C5-44FC-8FEE-71714EAE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BDAE-A711-4D67-9E69-EFFF607A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9F5-F3CE-4C2C-A5F5-37608D7D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E8D7-20B7-4D16-AE68-E5E33606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EEC7-F2FF-4C2A-A541-67894DF5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D2D9-DC00-4C07-BA53-14863A1A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7404-4A14-4EBC-BA0F-7E492B80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427B-577D-4A35-A3B1-BD249F84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9488F-470C-4088-800F-AD21FFED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81030-6118-4C30-A98A-AD869426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CEE1D-7DF9-4812-B63F-360D67D7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B9EE6-1B46-41D1-AC41-DE9631CD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C1D9B-0DAD-4A88-A6B0-FCBE5932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3E6-269B-48EE-9E7E-74CDDF3F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2EAAC-0ACD-4874-80CB-F3FCAD40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73F7-BEB3-4EED-8C4A-EAC5D587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4EF88-4003-482F-A9B5-6F025F66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83C07-0149-4BC1-8D63-624AB88D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32DF-FED4-4025-8D5E-CC817A27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422F6-7284-4219-89DC-7994BF54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5B8F-9B71-4834-A994-2006EC21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278F1-D2ED-4153-96E2-A67E1E0D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49833-88CF-4899-92FC-17ED3683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58931-4741-4015-8A2F-526EDAD9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3D2-4E7D-493A-B858-F1CA6CA5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58F9F-EEEA-4FE1-A442-0CDDC5DC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19017-2876-41C6-89AF-3B1ECE91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0B871-B228-4220-90AB-3569AE3B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E29A6-6E18-4A28-88BE-9AAD5B34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56591-7B4D-4F38-99D0-702DB1F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C8CCD-5A4B-44BE-86DC-B0A11118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1D05E-15ED-4E2D-B4E2-4759A16B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52512-5F10-4049-99EB-B0CC3C14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61B5B-0609-4B14-A257-1BF00419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805C4-4084-4A44-B213-808D88F1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0D1-329D-478C-8FB8-978EBF98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1AC9B-E86D-4EDE-B726-2B435FD8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590DE-4018-4FC7-AAE5-347359C3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FF88-1BE9-4CDC-BF41-E6F190FB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1FB69-680C-4809-B4C6-1CCDA62F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51855-992A-4745-820C-49A5DDAE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A124-D6DD-447D-9480-81232CE3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EF853-E07B-48EE-AAC0-94E3C591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DDA4C-82C6-4917-B78C-67EFD2E0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A64DD-E6DD-41CB-A76B-5B7A782C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A2937-35A7-4F06-8C10-B19418A1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2F2-32AA-4D6B-8BB3-BD0066CC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59142-2EBF-4BDA-A83A-1D314133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4AD19-FD8A-4DA4-B4D8-9239BF10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1EA10-254B-4C4F-BF83-5A7A8999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9671E-C0FC-48CB-BD39-D98632B1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2994A-7DEA-4EFC-AFAD-F0A402F5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F69F1-7ADB-4658-A202-BA98B1AD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5397B-C9DB-490E-9E0F-F1C331A2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9D4F2-8E6A-4EFD-B801-FB4DC923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49B90-5AD0-4939-8E77-292C61BA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05679-0C25-4849-AD74-FA9E495B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B5F-5A22-4BD5-9FFA-394BE5FD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A2199-8401-4643-8A43-8C1A4171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04139-C29A-4A6B-9C26-C3BDF290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2CC6B-D89D-40DB-9FE7-A94D872E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A3C1F-8EC2-4A29-9775-72CD782B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66F1E-ECCC-4D21-AC41-F64483E1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41799-E9FC-478D-91BC-4EFCB4B0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48B00-2DBF-4416-9244-5BAA9889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BB86B-990F-45E7-9D71-3B6BF799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564E8-0ED4-48A3-A217-0BB52A88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E1210-3898-4E30-9A70-043BBDBE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991-2DC8-4EF7-BE8C-DA6B1C4A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01034-DA19-4575-9FD5-276429AF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F895D-50D5-4B2C-AF26-BBF8ADBB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599E4-929C-4625-B6EA-F0A29753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4EAE3-8F3C-4490-B807-A06A5FB0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A0640-0B81-4B46-BB11-7A96F5AE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A62C9-7D4F-46A3-8402-CD587D31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E382E-16EE-44B1-BDEF-D94FED17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FD0D0-17BF-4451-B270-325F3B65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B9085-D08D-4D9C-9CA4-E91FB344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9FA37-A726-4E96-A4AC-7B705DBF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F20-C2DE-45CC-A12D-5A47EE23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C49B8-C6DC-4A2D-9EDA-4928DD5F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48D33-5C5A-489F-8C35-A7D05F74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E14C8-150F-4191-A379-B01383F1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9AC17-E6FC-4458-A13D-5AB932B5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CAF76-C3B2-4E95-8FC0-C1F587B2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8B789-65C5-47EE-8366-228CA5F0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9C3A0-4051-483F-92B1-644FAB3A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CEFA0-E319-430A-AC83-F3060DED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F5EE4-BFBB-42AD-8405-FC725417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7C024-9590-47F8-89ED-22B199FA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AC31-B673-44CD-B1EF-8DFAEA774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9894-8268-4BBA-A127-169BD3B7B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1852-C7B6-4FFF-A210-753DBA44B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08CD-4681-49B4-9E64-7A29BF2AF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5A95-BAD6-435F-AFE0-B97760562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3AC2-E4AA-4DA4-8257-7BA2AAC9C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1553-5769-4014-A29A-C132C4F58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EAD9-ED5B-4821-923B-90FFB87AD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0589-2C77-460E-A01A-921ECD111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E88E-5968-4FF2-ABEE-A7742A8D6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51C2-7085-4213-B9B2-C4F9CF9BB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8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-71280" y="-66600"/>
            <a:ext cx="896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单韵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声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2054160" y="198360"/>
            <a:ext cx="583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"/>
          <p:cNvSpPr/>
          <p:nvPr/>
        </p:nvSpPr>
        <p:spPr>
          <a:xfrm>
            <a:off x="2708280" y="1457280"/>
            <a:ext cx="61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ɑ  o  e  i  u 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"/>
          <p:cNvSpPr/>
          <p:nvPr/>
        </p:nvSpPr>
        <p:spPr>
          <a:xfrm>
            <a:off x="2054160" y="2316240"/>
            <a:ext cx="61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   p   m   f   d   t   n   l  g  k  h  j  q  x  z  c  s  y  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"/>
          <p:cNvSpPr/>
          <p:nvPr/>
        </p:nvSpPr>
        <p:spPr>
          <a:xfrm>
            <a:off x="4616280" y="3995640"/>
            <a:ext cx="618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i  wu  y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i   ci  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zh"/>
          <p:cNvPicPr/>
          <p:nvPr/>
        </p:nvPicPr>
        <p:blipFill>
          <a:blip r:embed="rId1"/>
          <a:stretch/>
        </p:blipFill>
        <p:spPr>
          <a:xfrm>
            <a:off x="179280" y="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1619280" y="530064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织毛衣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 zh z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042920" y="83664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19280" y="1988640"/>
            <a:ext cx="12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917080" y="1773360"/>
            <a:ext cx="34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1643040" y="52149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我吃苹果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 ch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012000" y="1052640"/>
            <a:ext cx="160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ch"/>
          <p:cNvPicPr/>
          <p:nvPr/>
        </p:nvPicPr>
        <p:blipFill>
          <a:blip r:embed="rId1"/>
          <a:stretch/>
        </p:blipFill>
        <p:spPr>
          <a:xfrm>
            <a:off x="357120" y="642960"/>
            <a:ext cx="4896000" cy="4546440"/>
          </a:xfrm>
          <a:prstGeom prst="rect">
            <a:avLst/>
          </a:prstGeom>
          <a:ln w="0">
            <a:noFill/>
          </a:ln>
        </p:spPr>
      </p:pic>
      <p:sp>
        <p:nvSpPr>
          <p:cNvPr id="51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 —  c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979640" y="465300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狮子狮子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老师老师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5725440" y="1413000"/>
            <a:ext cx="16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sh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 —  s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940400" y="58244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表示翘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辨一辨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100080" y="-44280"/>
            <a:ext cx="8943840" cy="6589440"/>
          </a:xfrm>
          <a:prstGeom prst="rect">
            <a:avLst/>
          </a:prstGeom>
          <a:ln w="0">
            <a:noFill/>
          </a:ln>
        </p:spPr>
      </p:pic>
      <p:sp>
        <p:nvSpPr>
          <p:cNvPr id="460" name="文本框 4"/>
          <p:cNvSpPr/>
          <p:nvPr/>
        </p:nvSpPr>
        <p:spPr>
          <a:xfrm>
            <a:off x="2233440" y="274680"/>
            <a:ext cx="3676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á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jǐ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l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412920" y="495360"/>
            <a:ext cx="15350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6118200" y="3683160"/>
            <a:ext cx="15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í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7"/>
          <p:cNvSpPr/>
          <p:nvPr/>
        </p:nvSpPr>
        <p:spPr>
          <a:xfrm>
            <a:off x="6451560" y="2728800"/>
            <a:ext cx="3035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ā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ē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bǎn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8"/>
          <p:cNvSpPr/>
          <p:nvPr/>
        </p:nvSpPr>
        <p:spPr>
          <a:xfrm>
            <a:off x="3792600" y="3535200"/>
            <a:ext cx="1560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9"/>
          <p:cNvSpPr/>
          <p:nvPr/>
        </p:nvSpPr>
        <p:spPr>
          <a:xfrm>
            <a:off x="4367160" y="4641840"/>
            <a:ext cx="2265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máo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yī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0"/>
          <p:cNvSpPr/>
          <p:nvPr/>
        </p:nvSpPr>
        <p:spPr>
          <a:xfrm>
            <a:off x="1947960" y="1637640"/>
            <a:ext cx="1598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1"/>
          <p:cNvSpPr/>
          <p:nvPr/>
        </p:nvSpPr>
        <p:spPr>
          <a:xfrm>
            <a:off x="412920" y="4359240"/>
            <a:ext cx="2581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c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227160" y="2621880"/>
            <a:ext cx="1522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we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3"/>
          <p:cNvSpPr/>
          <p:nvPr/>
        </p:nvSpPr>
        <p:spPr>
          <a:xfrm>
            <a:off x="3263760" y="2944800"/>
            <a:ext cx="1103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0" y="393372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轮红日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苗发芽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227640" y="549360"/>
            <a:ext cx="9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r"/>
          <p:cNvPicPr/>
          <p:nvPr/>
        </p:nvPicPr>
        <p:blipFill>
          <a:blip r:embed="rId1"/>
          <a:stretch/>
        </p:blipFill>
        <p:spPr>
          <a:xfrm>
            <a:off x="-22320" y="-44280"/>
            <a:ext cx="4484880" cy="4155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133720" y="15238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0" y="342900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翘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705720" y="331164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495680" y="15238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133720" y="331164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9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分类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4495680" y="331164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2133720" y="48769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0" y="169704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平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0"/>
          <p:cNvSpPr/>
          <p:nvPr/>
        </p:nvSpPr>
        <p:spPr>
          <a:xfrm>
            <a:off x="2895480" y="380880"/>
            <a:ext cx="59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0"/>
          <p:cNvSpPr/>
          <p:nvPr/>
        </p:nvSpPr>
        <p:spPr>
          <a:xfrm>
            <a:off x="2895480" y="380880"/>
            <a:ext cx="57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0" y="458136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1619280" y="2205000"/>
            <a:ext cx="75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宋体"/>
              </a:rPr>
              <a:t>看谁听得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373120" y="609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举字母游戏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文本框 4" descr=""/>
          <p:cNvPicPr/>
          <p:nvPr/>
        </p:nvPicPr>
        <p:blipFill>
          <a:blip r:embed="rId1"/>
          <a:stretch/>
        </p:blipFill>
        <p:spPr>
          <a:xfrm>
            <a:off x="606600" y="588960"/>
            <a:ext cx="8184960" cy="5262480"/>
          </a:xfrm>
          <a:prstGeom prst="rect">
            <a:avLst/>
          </a:prstGeom>
          <a:ln w="0">
            <a:noFill/>
          </a:ln>
        </p:spPr>
      </p:pic>
      <p:pic>
        <p:nvPicPr>
          <p:cNvPr id="580" name="矩形 6" descr=""/>
          <p:cNvPicPr/>
          <p:nvPr/>
        </p:nvPicPr>
        <p:blipFill>
          <a:blip r:embed="rId2"/>
          <a:stretch/>
        </p:blipFill>
        <p:spPr>
          <a:xfrm>
            <a:off x="3514680" y="5278320"/>
            <a:ext cx="4935600" cy="1198800"/>
          </a:xfrm>
          <a:prstGeom prst="rect">
            <a:avLst/>
          </a:prstGeom>
          <a:ln w="0">
            <a:noFill/>
          </a:ln>
        </p:spPr>
      </p:pic>
      <p:pic>
        <p:nvPicPr>
          <p:cNvPr id="581" name="矩形 7" descr=""/>
          <p:cNvPicPr/>
          <p:nvPr/>
        </p:nvPicPr>
        <p:blipFill>
          <a:blip r:embed="rId3"/>
          <a:stretch/>
        </p:blipFill>
        <p:spPr>
          <a:xfrm>
            <a:off x="263520" y="-12600"/>
            <a:ext cx="8415360" cy="110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4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3781440" y="620640"/>
            <a:ext cx="709560" cy="2379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msotw9_temp0"/>
          <p:cNvPicPr/>
          <p:nvPr/>
        </p:nvPicPr>
        <p:blipFill>
          <a:blip r:embed="rId2"/>
          <a:srcRect l="51715" t="38359" r="40280" b="57909"/>
          <a:stretch/>
        </p:blipFill>
        <p:spPr>
          <a:xfrm>
            <a:off x="4788000" y="0"/>
            <a:ext cx="3024000" cy="3716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1908000" y="3933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zhī   zhí   zhǐ   z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050920" y="47242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知      直      指     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msotw9_temp0"/>
          <p:cNvPicPr/>
          <p:nvPr/>
        </p:nvPicPr>
        <p:blipFill>
          <a:blip r:embed="rId2"/>
          <a:srcRect l="50005" t="65282" r="42750" b="30664"/>
          <a:stretch/>
        </p:blipFill>
        <p:spPr>
          <a:xfrm>
            <a:off x="4788000" y="0"/>
            <a:ext cx="3047760" cy="3429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571680" y="3500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shī   shí   shǐ  sh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-428760" y="4714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师     十    始    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WordArt 5"/>
          <p:cNvSpPr txBox="1"/>
          <p:nvPr/>
        </p:nvSpPr>
        <p:spPr>
          <a:xfrm>
            <a:off x="2590920" y="5335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zh ch sh r 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msotw9_temp0"/>
          <p:cNvPicPr/>
          <p:nvPr/>
        </p:nvPicPr>
        <p:blipFill>
          <a:blip r:embed="rId2"/>
          <a:srcRect l="50940" t="51889" r="41244" b="44352"/>
          <a:stretch/>
        </p:blipFill>
        <p:spPr>
          <a:xfrm>
            <a:off x="4427640" y="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762120" y="32004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chī  chí   chǐ  ch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0" y="41148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宋体"/>
              </a:rPr>
              <a:t>吃    迟   尺    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7961040" y="-946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msotw9_temp0"/>
          <p:cNvPicPr/>
          <p:nvPr/>
        </p:nvPicPr>
        <p:blipFill>
          <a:blip r:embed="rId2"/>
          <a:srcRect l="48967" t="77768" r="42750" b="17956"/>
          <a:stretch/>
        </p:blipFill>
        <p:spPr>
          <a:xfrm>
            <a:off x="4067280" y="0"/>
            <a:ext cx="3025800" cy="3429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755640" y="33577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r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55640" y="44370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816680" y="-230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抽奖票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dyd"/>
          <p:cNvPicPr/>
          <p:nvPr/>
        </p:nvPicPr>
        <p:blipFill>
          <a:blip r:embed="rId1"/>
          <a:stretch/>
        </p:blipFill>
        <p:spPr>
          <a:xfrm>
            <a:off x="611280" y="98100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468360" y="1773360"/>
            <a:ext cx="62182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1165680" y="6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11280" y="1700280"/>
            <a:ext cx="6634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900000" y="119700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900000" y="1700280"/>
            <a:ext cx="82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468360" y="476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692360" y="141300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r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rú    rǔ    r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u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r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文本框 1" descr=""/>
          <p:cNvPicPr/>
          <p:nvPr/>
        </p:nvPicPr>
        <p:blipFill>
          <a:blip r:embed="rId1"/>
          <a:stretch/>
        </p:blipFill>
        <p:spPr>
          <a:xfrm>
            <a:off x="1820880" y="1434960"/>
            <a:ext cx="618660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763640" y="2708280"/>
            <a:ext cx="8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29" name="WordArt 3"/>
          <p:cNvSpPr txBox="1"/>
          <p:nvPr/>
        </p:nvSpPr>
        <p:spPr>
          <a:xfrm>
            <a:off x="179280" y="2276640"/>
            <a:ext cx="108108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0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1" name="WordArt 5"/>
          <p:cNvSpPr txBox="1"/>
          <p:nvPr/>
        </p:nvSpPr>
        <p:spPr>
          <a:xfrm>
            <a:off x="6659640" y="2637000"/>
            <a:ext cx="720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5506920" y="2276640"/>
            <a:ext cx="1009800" cy="11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3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4" name="WordArt 8"/>
          <p:cNvSpPr txBox="1"/>
          <p:nvPr/>
        </p:nvSpPr>
        <p:spPr>
          <a:xfrm>
            <a:off x="133200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5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6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4"/>
          <p:cNvSpPr/>
          <p:nvPr/>
        </p:nvSpPr>
        <p:spPr>
          <a:xfrm>
            <a:off x="4108320" y="373212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4108320" y="4422600"/>
            <a:ext cx="46548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织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máo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yī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zhz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7"/>
          <p:cNvSpPr/>
          <p:nvPr/>
        </p:nvSpPr>
        <p:spPr>
          <a:xfrm>
            <a:off x="4108320" y="5607000"/>
            <a:ext cx="4654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椅子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 zh z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5"/>
          <p:cNvSpPr/>
          <p:nvPr/>
        </p:nvSpPr>
        <p:spPr>
          <a:xfrm>
            <a:off x="330120" y="560700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ū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8"/>
          <p:cNvSpPr/>
          <p:nvPr/>
        </p:nvSpPr>
        <p:spPr>
          <a:xfrm>
            <a:off x="1757520" y="3976560"/>
            <a:ext cx="2536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2"/>
          <p:cNvSpPr txBox="1"/>
          <p:nvPr/>
        </p:nvSpPr>
        <p:spPr>
          <a:xfrm>
            <a:off x="1979640" y="270828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6877080" y="2637000"/>
            <a:ext cx="503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1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2" name="WordArt 8"/>
          <p:cNvSpPr txBox="1"/>
          <p:nvPr/>
        </p:nvSpPr>
        <p:spPr>
          <a:xfrm>
            <a:off x="147636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3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4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5" name="WordArt 11"/>
          <p:cNvSpPr txBox="1"/>
          <p:nvPr/>
        </p:nvSpPr>
        <p:spPr>
          <a:xfrm>
            <a:off x="214200" y="242892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6" name="WordArt 12"/>
          <p:cNvSpPr txBox="1"/>
          <p:nvPr/>
        </p:nvSpPr>
        <p:spPr>
          <a:xfrm>
            <a:off x="5508720" y="2349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700360" y="2133720"/>
            <a:ext cx="9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49" name="WordArt 3"/>
          <p:cNvSpPr txBox="1"/>
          <p:nvPr/>
        </p:nvSpPr>
        <p:spPr>
          <a:xfrm>
            <a:off x="468360" y="1773360"/>
            <a:ext cx="151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7236000" y="4106880"/>
            <a:ext cx="7887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1" name="WordArt 5"/>
          <p:cNvSpPr txBox="1"/>
          <p:nvPr/>
        </p:nvSpPr>
        <p:spPr>
          <a:xfrm>
            <a:off x="6300720" y="41497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2" name="WordArt 6"/>
          <p:cNvSpPr txBox="1"/>
          <p:nvPr/>
        </p:nvSpPr>
        <p:spPr>
          <a:xfrm>
            <a:off x="4788000" y="3860640"/>
            <a:ext cx="136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282920" y="2092320"/>
            <a:ext cx="887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4" name="WordArt 8"/>
          <p:cNvSpPr txBox="1"/>
          <p:nvPr/>
        </p:nvSpPr>
        <p:spPr>
          <a:xfrm>
            <a:off x="2050920" y="2494080"/>
            <a:ext cx="547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5" name="WordArt 9"/>
          <p:cNvSpPr txBox="1"/>
          <p:nvPr/>
        </p:nvSpPr>
        <p:spPr>
          <a:xfrm>
            <a:off x="3706920" y="2494080"/>
            <a:ext cx="54756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6" name="WordArt 10"/>
          <p:cNvSpPr txBox="1"/>
          <p:nvPr/>
        </p:nvSpPr>
        <p:spPr>
          <a:xfrm>
            <a:off x="3851280" y="443700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745920"/>
            <a:ext cx="14572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尺子2"/>
          <p:cNvPicPr/>
          <p:nvPr/>
        </p:nvPicPr>
        <p:blipFill>
          <a:blip r:embed="rId1"/>
          <a:stretch/>
        </p:blipFill>
        <p:spPr>
          <a:xfrm>
            <a:off x="395280" y="2492280"/>
            <a:ext cx="2016000" cy="13334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吃鱼1"/>
          <p:cNvPicPr/>
          <p:nvPr/>
        </p:nvPicPr>
        <p:blipFill>
          <a:blip r:embed="rId2"/>
          <a:stretch/>
        </p:blipFill>
        <p:spPr>
          <a:xfrm>
            <a:off x="395280" y="189000"/>
            <a:ext cx="1873080" cy="1728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柿子"/>
          <p:cNvPicPr/>
          <p:nvPr/>
        </p:nvPicPr>
        <p:blipFill>
          <a:blip r:embed="rId3"/>
          <a:stretch/>
        </p:blipFill>
        <p:spPr>
          <a:xfrm>
            <a:off x="6443640" y="479736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狮子"/>
          <p:cNvPicPr/>
          <p:nvPr/>
        </p:nvPicPr>
        <p:blipFill>
          <a:blip r:embed="rId4"/>
          <a:stretch/>
        </p:blipFill>
        <p:spPr>
          <a:xfrm>
            <a:off x="53964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日历"/>
          <p:cNvPicPr/>
          <p:nvPr/>
        </p:nvPicPr>
        <p:blipFill>
          <a:blip r:embed="rId5"/>
          <a:stretch/>
        </p:blipFill>
        <p:spPr>
          <a:xfrm>
            <a:off x="637236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食指"/>
          <p:cNvPicPr/>
          <p:nvPr/>
        </p:nvPicPr>
        <p:blipFill>
          <a:blip r:embed="rId6"/>
          <a:stretch/>
        </p:blipFill>
        <p:spPr>
          <a:xfrm>
            <a:off x="6372360" y="2492280"/>
            <a:ext cx="1942920" cy="1584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"/>
          <p:cNvSpPr/>
          <p:nvPr/>
        </p:nvSpPr>
        <p:spPr>
          <a:xfrm>
            <a:off x="3635280" y="189000"/>
            <a:ext cx="180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í  ch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ì   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ī    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ì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í     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ī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1908000" y="220500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2268360" y="1916280"/>
            <a:ext cx="151164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 flipV="1">
            <a:off x="2411280" y="404280"/>
            <a:ext cx="129708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"/>
          <p:cNvSpPr/>
          <p:nvPr/>
        </p:nvSpPr>
        <p:spPr>
          <a:xfrm>
            <a:off x="2340000" y="522936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4427640" y="1557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5"/>
          <p:cNvSpPr/>
          <p:nvPr/>
        </p:nvSpPr>
        <p:spPr>
          <a:xfrm flipV="1">
            <a:off x="5148360" y="3357360"/>
            <a:ext cx="1224000" cy="143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6"/>
          <p:cNvSpPr/>
          <p:nvPr/>
        </p:nvSpPr>
        <p:spPr>
          <a:xfrm>
            <a:off x="4859280" y="3789360"/>
            <a:ext cx="1513080" cy="1800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7" name="chimes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内容占位符 3" descr="2063911053"/>
          <p:cNvPicPr/>
          <p:nvPr/>
        </p:nvPicPr>
        <p:blipFill>
          <a:blip r:embed="rId1"/>
          <a:stretch/>
        </p:blipFill>
        <p:spPr>
          <a:xfrm rot="16200000">
            <a:off x="2652480" y="-1920600"/>
            <a:ext cx="3936960" cy="832788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4"/>
          <p:cNvSpPr/>
          <p:nvPr/>
        </p:nvSpPr>
        <p:spPr>
          <a:xfrm>
            <a:off x="457200" y="4668840"/>
            <a:ext cx="41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cā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huō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i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5"/>
          <p:cNvSpPr/>
          <p:nvPr/>
        </p:nvSpPr>
        <p:spPr>
          <a:xfrm>
            <a:off x="4861080" y="4668840"/>
            <a:ext cx="3641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é)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纸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ǐ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4"/>
          <p:cNvSpPr/>
          <p:nvPr/>
        </p:nvSpPr>
        <p:spPr>
          <a:xfrm>
            <a:off x="7324560" y="3573360"/>
            <a:ext cx="112104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7323480" y="189720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733320" y="2070000"/>
            <a:ext cx="8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2812680" y="2055960"/>
            <a:ext cx="11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4933080" y="200484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0.014514 0.474074 E">
                                      <p:cBhvr>
                                        <p:cTn id="585" dur="1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-0.512222 0.374444 E">
                                      <p:cBhvr>
                                        <p:cTn id="589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006528 0.423241 E">
                                      <p:cBhvr>
                                        <p:cTn id="593" dur="1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.006574 L 0.509167 0.37537 E">
                                      <p:cBhvr>
                                        <p:cTn id="597" dur="1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舌头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四       十       十四       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ì       shí      shí sì     sì s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3132000" y="189000"/>
            <a:ext cx="42483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 是 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 是  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是    十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是 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不  读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不  读  十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3"/>
          <p:cNvSpPr txBox="1"/>
          <p:nvPr/>
        </p:nvSpPr>
        <p:spPr>
          <a:xfrm rot="5400000">
            <a:off x="-276120" y="2371320"/>
            <a:ext cx="4032360" cy="110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来绕口令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0"/>
            <a:ext cx="3095640" cy="3733920"/>
          </a:xfrm>
          <a:prstGeom prst="rect">
            <a:avLst/>
          </a:prstGeom>
          <a:ln w="0">
            <a:noFill/>
          </a:ln>
        </p:spPr>
      </p:pic>
      <p:sp>
        <p:nvSpPr>
          <p:cNvPr id="700" name="Line 4"/>
          <p:cNvSpPr/>
          <p:nvPr/>
        </p:nvSpPr>
        <p:spPr>
          <a:xfrm>
            <a:off x="2484360" y="378936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"/>
          <p:cNvSpPr/>
          <p:nvPr/>
        </p:nvSpPr>
        <p:spPr>
          <a:xfrm>
            <a:off x="2484360" y="638172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"/>
          <p:cNvSpPr/>
          <p:nvPr/>
        </p:nvSpPr>
        <p:spPr>
          <a:xfrm>
            <a:off x="2484360" y="5516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2484360" y="458136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141800" y="3716280"/>
            <a:ext cx="20858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179280" y="39736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2846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05320" y="0"/>
            <a:ext cx="2514600" cy="3284640"/>
          </a:xfrm>
          <a:prstGeom prst="rect">
            <a:avLst/>
          </a:prstGeom>
          <a:ln w="0">
            <a:noFill/>
          </a:ln>
        </p:spPr>
      </p:pic>
      <p:sp>
        <p:nvSpPr>
          <p:cNvPr id="709" name="Line 4"/>
          <p:cNvSpPr/>
          <p:nvPr/>
        </p:nvSpPr>
        <p:spPr>
          <a:xfrm>
            <a:off x="1476360" y="3284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1476360" y="645336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"/>
          <p:cNvSpPr/>
          <p:nvPr/>
        </p:nvSpPr>
        <p:spPr>
          <a:xfrm>
            <a:off x="1476360" y="5445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7"/>
          <p:cNvSpPr/>
          <p:nvPr/>
        </p:nvSpPr>
        <p:spPr>
          <a:xfrm>
            <a:off x="1476360" y="4292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133440" y="328464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588000" y="105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2"/>
          <p:cNvSpPr/>
          <p:nvPr/>
        </p:nvSpPr>
        <p:spPr>
          <a:xfrm>
            <a:off x="222120" y="2308320"/>
            <a:ext cx="3079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2"/>
          <p:cNvSpPr/>
          <p:nvPr/>
        </p:nvSpPr>
        <p:spPr>
          <a:xfrm>
            <a:off x="2443320" y="2528280"/>
            <a:ext cx="50148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c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wei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藏在椅子后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chchch</a:t>
            </a:r>
            <a:r>
              <a:rPr b="0" lang="zh-CN" sz="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1"/>
          <p:cNvSpPr/>
          <p:nvPr/>
        </p:nvSpPr>
        <p:spPr>
          <a:xfrm>
            <a:off x="2443320" y="4038480"/>
            <a:ext cx="4776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h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i  chi  ch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3733920" y="0"/>
            <a:ext cx="2709720" cy="3429000"/>
          </a:xfrm>
          <a:prstGeom prst="rect">
            <a:avLst/>
          </a:prstGeom>
          <a:ln w="0">
            <a:noFill/>
          </a:ln>
        </p:spPr>
      </p:pic>
      <p:sp>
        <p:nvSpPr>
          <p:cNvPr id="718" name="Line 4"/>
          <p:cNvSpPr/>
          <p:nvPr/>
        </p:nvSpPr>
        <p:spPr>
          <a:xfrm>
            <a:off x="1547640" y="350028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"/>
          <p:cNvSpPr/>
          <p:nvPr/>
        </p:nvSpPr>
        <p:spPr>
          <a:xfrm>
            <a:off x="1547640" y="4508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6"/>
          <p:cNvSpPr/>
          <p:nvPr/>
        </p:nvSpPr>
        <p:spPr>
          <a:xfrm>
            <a:off x="1547640" y="566100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"/>
          <p:cNvSpPr/>
          <p:nvPr/>
        </p:nvSpPr>
        <p:spPr>
          <a:xfrm>
            <a:off x="1547640" y="666900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3133440" y="350028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" descr="msotw9_temp0"/>
          <p:cNvPicPr/>
          <p:nvPr/>
        </p:nvPicPr>
        <p:blipFill>
          <a:blip r:embed="rId2"/>
          <a:srcRect l="48967" t="71701" r="42750" b="22594"/>
          <a:stretch/>
        </p:blipFill>
        <p:spPr>
          <a:xfrm>
            <a:off x="3657600" y="0"/>
            <a:ext cx="2819520" cy="3429000"/>
          </a:xfrm>
          <a:prstGeom prst="rect">
            <a:avLst/>
          </a:prstGeom>
          <a:ln w="0">
            <a:noFill/>
          </a:ln>
        </p:spPr>
      </p:pic>
      <p:sp>
        <p:nvSpPr>
          <p:cNvPr id="726" name="Line 4"/>
          <p:cNvSpPr/>
          <p:nvPr/>
        </p:nvSpPr>
        <p:spPr>
          <a:xfrm>
            <a:off x="1116000" y="3429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"/>
          <p:cNvSpPr/>
          <p:nvPr/>
        </p:nvSpPr>
        <p:spPr>
          <a:xfrm>
            <a:off x="1116000" y="5661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6"/>
          <p:cNvSpPr/>
          <p:nvPr/>
        </p:nvSpPr>
        <p:spPr>
          <a:xfrm>
            <a:off x="1116000" y="6669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"/>
          <p:cNvSpPr/>
          <p:nvPr/>
        </p:nvSpPr>
        <p:spPr>
          <a:xfrm>
            <a:off x="1116000" y="4508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494160" y="3500280"/>
            <a:ext cx="907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g8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 起 学 儿 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轮红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r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山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shī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子想来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c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树上同伴有办法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伸下树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z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来搭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平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WordArt 2"/>
          <p:cNvSpPr txBox="1"/>
          <p:nvPr/>
        </p:nvSpPr>
        <p:spPr>
          <a:xfrm>
            <a:off x="395280" y="1557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0" name="WordArt 3"/>
          <p:cNvSpPr txBox="1"/>
          <p:nvPr/>
        </p:nvSpPr>
        <p:spPr>
          <a:xfrm>
            <a:off x="2971800" y="1752480"/>
            <a:ext cx="7779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1" name="WordArt 4"/>
          <p:cNvSpPr txBox="1"/>
          <p:nvPr/>
        </p:nvSpPr>
        <p:spPr>
          <a:xfrm>
            <a:off x="6084720" y="1628640"/>
            <a:ext cx="100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2" name="WordArt 5"/>
          <p:cNvSpPr txBox="1"/>
          <p:nvPr/>
        </p:nvSpPr>
        <p:spPr>
          <a:xfrm>
            <a:off x="826920" y="3500280"/>
            <a:ext cx="136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3" name="WordArt 6"/>
          <p:cNvSpPr txBox="1"/>
          <p:nvPr/>
        </p:nvSpPr>
        <p:spPr>
          <a:xfrm>
            <a:off x="7238880" y="1905120"/>
            <a:ext cx="720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4" name="WordArt 7"/>
          <p:cNvSpPr txBox="1"/>
          <p:nvPr/>
        </p:nvSpPr>
        <p:spPr>
          <a:xfrm>
            <a:off x="2362320" y="3840120"/>
            <a:ext cx="761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5" name="WordArt 8"/>
          <p:cNvSpPr txBox="1"/>
          <p:nvPr/>
        </p:nvSpPr>
        <p:spPr>
          <a:xfrm>
            <a:off x="6400800" y="3886200"/>
            <a:ext cx="64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6" name="WordArt 9"/>
          <p:cNvSpPr txBox="1"/>
          <p:nvPr/>
        </p:nvSpPr>
        <p:spPr>
          <a:xfrm>
            <a:off x="4859280" y="3573360"/>
            <a:ext cx="1366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7" name="WordArt 10"/>
          <p:cNvSpPr txBox="1"/>
          <p:nvPr/>
        </p:nvSpPr>
        <p:spPr>
          <a:xfrm>
            <a:off x="1763640" y="2131920"/>
            <a:ext cx="8971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8" name="WordArt 11"/>
          <p:cNvSpPr txBox="1"/>
          <p:nvPr/>
        </p:nvSpPr>
        <p:spPr>
          <a:xfrm>
            <a:off x="4716360" y="1844640"/>
            <a:ext cx="897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3618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4"/>
          <p:cNvSpPr/>
          <p:nvPr/>
        </p:nvSpPr>
        <p:spPr>
          <a:xfrm>
            <a:off x="2495520" y="1554120"/>
            <a:ext cx="23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4397400" y="1753920"/>
            <a:ext cx="32479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3"/>
          <p:cNvSpPr/>
          <p:nvPr/>
        </p:nvSpPr>
        <p:spPr>
          <a:xfrm>
            <a:off x="4397400" y="2478240"/>
            <a:ext cx="4376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椅子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h sh 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5"/>
          <p:cNvSpPr/>
          <p:nvPr/>
        </p:nvSpPr>
        <p:spPr>
          <a:xfrm>
            <a:off x="4427640" y="47628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3132000" y="1733400"/>
            <a:ext cx="54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e—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r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o--ru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4" descr="MCj03450830000[1]"/>
          <p:cNvPicPr/>
          <p:nvPr/>
        </p:nvPicPr>
        <p:blipFill>
          <a:blip r:embed="rId2"/>
          <a:stretch/>
        </p:blipFill>
        <p:spPr>
          <a:xfrm>
            <a:off x="6858000" y="4876920"/>
            <a:ext cx="2209680" cy="1892160"/>
          </a:xfrm>
          <a:prstGeom prst="rect">
            <a:avLst/>
          </a:prstGeom>
          <a:ln w="0">
            <a:noFill/>
          </a:ln>
        </p:spPr>
      </p:pic>
      <p:sp>
        <p:nvSpPr>
          <p:cNvPr id="78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MCj04292310000[1]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71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0" name="Rectangle 3"/>
          <p:cNvSpPr/>
          <p:nvPr/>
        </p:nvSpPr>
        <p:spPr>
          <a:xfrm>
            <a:off x="6172200" y="1828800"/>
            <a:ext cx="17524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 rot="185400">
            <a:off x="838080" y="4876920"/>
            <a:ext cx="167652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 rot="20951400">
            <a:off x="6780600" y="5659200"/>
            <a:ext cx="1676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 rot="21332400">
            <a:off x="6858000" y="30481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 rot="1444200">
            <a:off x="4114440" y="304776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 rot="20838000">
            <a:off x="2588400" y="4342680"/>
            <a:ext cx="236232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4038480" y="5659560"/>
            <a:ext cx="228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-60480" y="3357720"/>
            <a:ext cx="1752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1"/>
          <p:cNvSpPr/>
          <p:nvPr/>
        </p:nvSpPr>
        <p:spPr>
          <a:xfrm>
            <a:off x="7162920" y="4114800"/>
            <a:ext cx="1828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838080" y="35053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1981080" y="51814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4191120" y="46483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 flipV="1">
            <a:off x="4419720" y="45716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5715000" y="59436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5867280" y="365760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>
            <a:off x="7391520" y="198108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8077320" y="320040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 flipV="1">
            <a:off x="8229600" y="32000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8381880" y="42670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 flipV="1">
            <a:off x="8077320" y="5638320"/>
            <a:ext cx="15228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汉拼32"/>
          <p:cNvPicPr/>
          <p:nvPr/>
        </p:nvPicPr>
        <p:blipFill>
          <a:blip r:embed="rId1"/>
          <a:srcRect l="6753" t="62715" r="0" b="7483"/>
          <a:stretch/>
        </p:blipFill>
        <p:spPr>
          <a:xfrm>
            <a:off x="611280" y="476280"/>
            <a:ext cx="7921440" cy="583236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汉拼32"/>
          <p:cNvPicPr/>
          <p:nvPr/>
        </p:nvPicPr>
        <p:blipFill>
          <a:blip r:embed="rId1"/>
          <a:srcRect l="12898" t="9069" r="6051" b="40249"/>
          <a:stretch/>
        </p:blipFill>
        <p:spPr>
          <a:xfrm>
            <a:off x="755640" y="0"/>
            <a:ext cx="7272360" cy="685800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W0200808254028407118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2438280" y="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rì </a:t>
            </a: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日  </a:t>
            </a: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6477120" y="2666880"/>
            <a:ext cx="2286000" cy="299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dú s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读  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371600" y="43434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qí ch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骑  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76320" y="16002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zhú z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竹 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27468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4"/>
          <p:cNvSpPr/>
          <p:nvPr/>
        </p:nvSpPr>
        <p:spPr>
          <a:xfrm>
            <a:off x="6335640" y="3400560"/>
            <a:ext cx="1903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"/>
          <p:cNvSpPr/>
          <p:nvPr/>
        </p:nvSpPr>
        <p:spPr>
          <a:xfrm>
            <a:off x="957240" y="1087560"/>
            <a:ext cx="285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5"/>
          <p:cNvSpPr/>
          <p:nvPr/>
        </p:nvSpPr>
        <p:spPr>
          <a:xfrm>
            <a:off x="4879800" y="3068640"/>
            <a:ext cx="360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值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6"/>
          <p:cNvSpPr/>
          <p:nvPr/>
        </p:nvSpPr>
        <p:spPr>
          <a:xfrm>
            <a:off x="3457440" y="5143680"/>
            <a:ext cx="522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禾苗向日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rr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7"/>
          <p:cNvSpPr/>
          <p:nvPr/>
        </p:nvSpPr>
        <p:spPr>
          <a:xfrm>
            <a:off x="4708440" y="396720"/>
            <a:ext cx="360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250920" y="1125000"/>
            <a:ext cx="87408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日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太阳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一轮红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升起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151920" y="9079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小弟弟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老爷爷带着小孙子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761760" y="1646280"/>
            <a:ext cx="92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有很多很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的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得很茂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76212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大姐姐坐在公园的椅子上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MCj042923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4"/>
          <p:cNvSpPr/>
          <p:nvPr/>
        </p:nvSpPr>
        <p:spPr>
          <a:xfrm>
            <a:off x="1066680" y="0"/>
            <a:ext cx="6934320" cy="6942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欢迎台湾小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船，扬白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飘呀飘呀到台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接来台湾小朋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到我学校玩一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伸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双手紧紧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情的话儿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不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590920" y="533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zh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2362320" y="4572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1828800" y="5562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r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4495680" y="556272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s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755640" y="50846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4140360" y="2565360"/>
            <a:ext cx="10141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5364000" y="2565360"/>
            <a:ext cx="1041480" cy="113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539640" y="2565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979640" y="2565360"/>
            <a:ext cx="11224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3708360" y="50133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196920" y="76500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u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2967840" y="765000"/>
            <a:ext cx="11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5847840" y="836640"/>
            <a:ext cx="7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43916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16484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6912720" y="836640"/>
            <a:ext cx="9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8089200" y="83664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30636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1123" dur="1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1127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1131" dur="1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1135" dur="1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1139" dur="1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1143" dur="1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1147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2133720" y="4876920"/>
            <a:ext cx="1676160" cy="16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7086600" y="2743200"/>
            <a:ext cx="1676520" cy="17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3962520" y="2438280"/>
            <a:ext cx="1676160" cy="1752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1066680" y="2438280"/>
            <a:ext cx="1752840" cy="1828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5105520" y="4876920"/>
            <a:ext cx="16761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5867280" y="457200"/>
            <a:ext cx="17528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2514600" y="304920"/>
            <a:ext cx="1752480" cy="167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6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7000" y="115848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91920" y="248436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 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  读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看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行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交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8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电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筒  听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讲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1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6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09:04Z</dcterms:created>
  <dc:creator/>
  <dc:description/>
  <dc:language>en-US</dc:language>
  <cp:lastModifiedBy>ASUS</cp:lastModifiedBy>
  <dcterms:modified xsi:type="dcterms:W3CDTF">2017-10-24T16:03:24Z</dcterms:modified>
  <cp:revision>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